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3A2-9EE7-49D2-8D68-366D186D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B50F-D9B1-469B-97C8-67E9398B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84B-FDB0-45BC-8DBB-AB738AF5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438-FB59-4B86-902D-630EB4E3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1071-8C83-457E-A279-5CE12CC8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2ABD-946E-40E1-B896-6DA55BCE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9900-BAD9-42D5-B1C9-13CC0606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4E75-BD43-4570-ABCE-DE4B3568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C2E5-1B98-43CE-9631-FFE40A86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5630-6F34-4CD4-91D2-CFCC446D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8654-9A73-4771-B0C8-A641825B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460-8323-4BC7-A94B-A3A10A05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B11D-8B24-4C83-A25B-3C61C122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6AE2-E6FB-4F4A-AB85-F2641B64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9340-B6C2-4F54-A91B-C9264D1A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C791-D17B-46F3-92AA-F65258F5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8BF9-C023-44B5-A3ED-F25E70BA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88174-2B62-4AD3-9C9E-7018820A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5C15C-A29E-4A9A-AD89-B0F60AA2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A4F76-2147-4BBD-9D53-8AC0306B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8734D-31CA-40DF-B147-563515DB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A1782-F906-4A70-8374-7594BEA3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30F-461C-42DD-9991-47DE44D4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53610-1804-4611-9847-1427660C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D555A-573E-46C5-AD48-B5236F49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9C2BB-BC3F-4900-BDC2-F4FCE683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545D1-8FF2-437F-91B8-6FEEE773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7EDDD-F7CE-4216-A5EA-3378F704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FEB22-6F79-4F82-8DC5-98EB900D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56C27-69B2-43E6-B3C9-4D88B946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000D0-6F7A-40C3-8B60-EB13527C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F2C16-1DD4-4F21-B6F2-B0C4EB80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FB810-9408-47D7-AE04-EEBADAC2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A4E1-513E-455E-BB6E-6CB1A984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2BC41-3E05-44A1-AB2F-FA6778BE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D4934-0432-4AF1-A51A-8E3E7737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F152D-7DFC-480A-8AEE-ACE39F64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A450F-286D-4D56-8DF4-030815A6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5C760-7064-477B-8AD3-5D2DB840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9B807-BF50-42C4-912C-D29D46C7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35EFE-0106-4B0A-BCD3-03BFF017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46AB7-6424-4FE9-B47C-143C6A1F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987DB-EACD-444E-9EFC-C32889FD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6FF-1B6B-4C4D-B05E-9E31A13C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143-CC00-498B-BA51-F5EBEBA9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B40-7F67-428B-A245-E7356DD0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137-7F47-43DB-B591-1A3B7F43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E43-1BDB-4CBE-BDF1-7CB3CC7A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9DC9-0EC4-4C02-AD1D-4F53190A79B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36B8-D962-452B-A048-5D83ABCD3D07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11AE-DD13-4A7D-B12C-EAA929962980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4353-01AB-49AE-87CD-CDC7204C69E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ahUKEwj1uMvk5s3MAhVDcBoKHcy6DAAQjRwIBw&amp;url=https%3A%2F%2Fwww.mun.ca%2Fbiology%2Fscarr%2FiGen3_03-01.html&amp;psig=AFQjCNFGr1XLxnRIcVULs-3FrgoxuW5_uw&amp;ust=146291112082240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f/fb/Meselson-stahl_experiment_diagram_en.sv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5600" spc="-1" strike="noStrike">
                <a:solidFill>
                  <a:srgbClr val="ffff00"/>
                </a:solidFill>
                <a:latin typeface="Arial"/>
                <a:ea typeface="Arial"/>
              </a:rPr>
              <a:t>6</a:t>
            </a:r>
            <a:r>
              <a:rPr b="1" lang="sr-CS" sz="56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1" lang="sr-CS" sz="4800" spc="-1" strike="noStrike">
                <a:solidFill>
                  <a:srgbClr val="ffff00"/>
                </a:solidFill>
                <a:latin typeface="Arial"/>
                <a:ea typeface="Arial"/>
              </a:rPr>
              <a:t>РЕПЛИКАЦИЈ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cc"/>
                </a:solidFill>
                <a:latin typeface="Calibri"/>
              </a:rPr>
              <a:t>Репликација је савршено контролисана и регулисан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320" y="236232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решке у спаривању најчешће настају због таутомерних п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ме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азотних база (прелази Н атом са једне на другу позицију унутар молекула базе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sr-RS" sz="2200" spc="-1" strike="noStrike">
                <a:solidFill>
                  <a:srgbClr val="ff0000"/>
                </a:solidFill>
                <a:latin typeface="Arial"/>
              </a:rPr>
              <a:t>, С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мино форма (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sr-Latn-R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груп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     енолни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-G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0000"/>
                </a:solidFill>
                <a:latin typeface="Arial"/>
                <a:ea typeface="Arial"/>
              </a:rPr>
              <a:t>G, Т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кето форма (СО група)       имино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C-A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Right Arrow 1"/>
          <p:cNvSpPr/>
          <p:nvPr/>
        </p:nvSpPr>
        <p:spPr>
          <a:xfrm>
            <a:off x="3429000" y="5029200"/>
            <a:ext cx="304920" cy="46080"/>
          </a:xfrm>
          <a:prstGeom prst="rightArrow">
            <a:avLst>
              <a:gd name="adj1" fmla="val 50000"/>
              <a:gd name="adj2" fmla="val 4962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Right Arrow 4"/>
          <p:cNvSpPr/>
          <p:nvPr/>
        </p:nvSpPr>
        <p:spPr>
          <a:xfrm>
            <a:off x="6172200" y="4983120"/>
            <a:ext cx="304920" cy="46080"/>
          </a:xfrm>
          <a:prstGeom prst="rightArrow">
            <a:avLst>
              <a:gd name="adj1" fmla="val 50000"/>
              <a:gd name="adj2" fmla="val 4962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Right Arrow 5"/>
          <p:cNvSpPr/>
          <p:nvPr/>
        </p:nvSpPr>
        <p:spPr>
          <a:xfrm>
            <a:off x="3405240" y="6095880"/>
            <a:ext cx="304920" cy="46080"/>
          </a:xfrm>
          <a:prstGeom prst="rightArrow">
            <a:avLst>
              <a:gd name="adj1" fmla="val 50000"/>
              <a:gd name="adj2" fmla="val 4962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Right Arrow 6"/>
          <p:cNvSpPr/>
          <p:nvPr/>
        </p:nvSpPr>
        <p:spPr>
          <a:xfrm flipV="1">
            <a:off x="6075360" y="6095880"/>
            <a:ext cx="304920" cy="46080"/>
          </a:xfrm>
          <a:prstGeom prst="rightArrow">
            <a:avLst>
              <a:gd name="adj1" fmla="val 50000"/>
              <a:gd name="adj2" fmla="val 4962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8256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Транзи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ења се пурин пурином и пиримидин пиримидином </a:t>
            </a:r>
            <a:br>
              <a:rPr sz="2400"/>
            </a:br>
            <a:r>
              <a:rPr b="1" i="1" lang="fr-FR" sz="2400" spc="-1" strike="noStrike">
                <a:solidFill>
                  <a:srgbClr val="6600ff"/>
                </a:solidFill>
                <a:latin typeface="Arial"/>
              </a:rPr>
              <a:t>Трансверзије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мења се пурин пиримидин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обратно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http://www.zoology.ubc.ca/genetics/transisverstable.gif"/>
          <p:cNvPicPr/>
          <p:nvPr/>
        </p:nvPicPr>
        <p:blipFill>
          <a:blip r:embed="rId1"/>
          <a:stretch/>
        </p:blipFill>
        <p:spPr>
          <a:xfrm>
            <a:off x="30240" y="3276720"/>
            <a:ext cx="2789280" cy="2895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www.mun.ca/biology/scarr/iGen3_07-03_Figure-Lab.jpg"/>
          <p:cNvPicPr/>
          <p:nvPr/>
        </p:nvPicPr>
        <p:blipFill>
          <a:blip r:embed="rId2"/>
          <a:stretch/>
        </p:blipFill>
        <p:spPr>
          <a:xfrm>
            <a:off x="3009960" y="2992320"/>
            <a:ext cx="6095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стопа мута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590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по гену износ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по нуклеотиду износ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000" spc="-1" strike="noStrike">
                <a:solidFill>
                  <a:srgbClr val="0000cc"/>
                </a:solidFill>
                <a:latin typeface="Arial"/>
                <a:ea typeface="Arial"/>
              </a:rPr>
              <a:t>K</a:t>
            </a:r>
            <a:r>
              <a:rPr b="0" lang="sr-CS" sz="5000" spc="-1" strike="noStrike">
                <a:solidFill>
                  <a:srgbClr val="0000cc"/>
                </a:solidFill>
                <a:latin typeface="Arial"/>
                <a:ea typeface="Arial"/>
              </a:rPr>
              <a:t>од, кодон, антикодо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c00000"/>
                </a:solidFill>
                <a:latin typeface="Arial"/>
                <a:ea typeface="Arial"/>
              </a:rPr>
              <a:t>Ko</a:t>
            </a: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д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Кодон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и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Антикодон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т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cc"/>
                </a:solidFill>
                <a:latin typeface="Arial"/>
                <a:ea typeface="Arial"/>
              </a:rPr>
              <a:t>Основне карактеристике кода/кодона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Универзално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дступа само мт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ваки кодон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кодира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к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ос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ледећ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А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G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који су означени као </a:t>
            </a:r>
            <a:r>
              <a:rPr b="1" i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бесмислени (нонсенс), стоп кодо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ницијални  </a:t>
            </a:r>
            <a:r>
              <a:rPr b="1" i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или старт кодон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ион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Дегенеративност кода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/кодо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 једну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ира већи број кодона, осим триптофана и метионина које од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је само по један кодо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Одсуство преклапања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и елементи једног кодона нису у исто време елементи другог кодо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13translation"/>
          <p:cNvPicPr/>
          <p:nvPr/>
        </p:nvPicPr>
        <p:blipFill>
          <a:blip r:embed="rId1"/>
          <a:stretch/>
        </p:blipFill>
        <p:spPr>
          <a:xfrm>
            <a:off x="990720" y="137160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</a:t>
            </a:r>
            <a:r>
              <a:rPr b="0" lang="sr-CS" sz="5000" spc="-1" strike="noStrike">
                <a:solidFill>
                  <a:srgbClr val="04617b"/>
                </a:solidFill>
                <a:latin typeface="Calibri"/>
              </a:rPr>
              <a:t>еплика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39640" y="2349000"/>
            <a:ext cx="8229600" cy="207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http://highered.mcgraw-hill.com/sites/0072437316/student_view0/chapter14/animations.html#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Репликација (удвајање) ДНК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је једини познати молекул који има способност ауторепродукц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ава се у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фази интерфаз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да су хромозоми у деспирализованом стањ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лсон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л (1958.)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ојим експериментима показа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а се репликација одвија 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полуконзервативан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семиконзервативан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начи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Репликација се дешава на семиконзервативан начи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5" descr="https://www.mun.ca/biology/scarr/iGen3_03-01_Figure-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133720"/>
            <a:ext cx="8229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Експеримент Мезелсона и Штал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2" descr="File:Meselson-stahl experiment diagram en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98800"/>
            <a:ext cx="4876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Ензими репликациј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120" y="137124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елик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опоизомер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B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протеи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1. Енд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гз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имера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ДНК-полимераз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РНК полимераза 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прим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иг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-360" y="990360"/>
            <a:ext cx="4800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пликација код еукариота се дешава на више места дуж хромозома у  исто време,  у правцу 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-3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 почиње на самом крају лан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ReplicationBubbles"/>
          <p:cNvPicPr/>
          <p:nvPr/>
        </p:nvPicPr>
        <p:blipFill>
          <a:blip r:embed="rId1"/>
          <a:stretch/>
        </p:blipFill>
        <p:spPr>
          <a:xfrm>
            <a:off x="5562720" y="1371600"/>
            <a:ext cx="27223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434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у репликације претходи иницијација репли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иницијацији настаје пререпликациони комплекс (комплекс протеина који настаје на месту почетка реплика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rigin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replication3"/>
          <p:cNvPicPr/>
          <p:nvPr/>
        </p:nvPicPr>
        <p:blipFill>
          <a:blip r:embed="rId1"/>
          <a:stretch/>
        </p:blipFill>
        <p:spPr>
          <a:xfrm>
            <a:off x="4876920" y="1447920"/>
            <a:ext cx="397656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0" y="14479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пликација 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че у исто време на оба ланца у правцу 5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а пошто су они антипаралелн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једном тече од краја ка средишту репликацио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иљушке, 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другом од средишта ка крају репликационе виљуш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3" descr="DNArep1"/>
          <p:cNvPicPr/>
          <p:nvPr/>
        </p:nvPicPr>
        <p:blipFill>
          <a:blip r:embed="rId1"/>
          <a:stretch/>
        </p:blipFill>
        <p:spPr>
          <a:xfrm>
            <a:off x="4400640" y="1295280"/>
            <a:ext cx="474336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воде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ланцу - Примаза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заостају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ланц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има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игаз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ја повезуј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Оказакијев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ф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рагмен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Enzymes%20at%20Replication%20Fork"/>
          <p:cNvPicPr/>
          <p:nvPr/>
        </p:nvPicPr>
        <p:blipFill>
          <a:blip r:embed="rId1"/>
          <a:stretch/>
        </p:blipFill>
        <p:spPr>
          <a:xfrm>
            <a:off x="2819520" y="1860480"/>
            <a:ext cx="6172200" cy="47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Ryzen</cp:lastModifiedBy>
  <dcterms:modified xsi:type="dcterms:W3CDTF">2022-08-22T09:57:29Z</dcterms:modified>
  <cp:revision>102</cp:revision>
  <dc:subject/>
  <dc:title>2-Humani genom</dc:title>
</cp:coreProperties>
</file>